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21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2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B682-3C8A-4CA1-8AA1-177019767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701D-AE62-4E9F-A4E7-6A7E4EDC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8F96-7BE0-4C89-976A-098288B10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0A98-716F-4699-844D-8C67D02BE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4C92-BB31-4AAC-9A4C-3C80CA2D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F99E-653F-4681-89F8-45C5332B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CB08-4029-4ED6-8AB3-B49F298F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8187-BE34-4F3B-9D91-0ADCC6E3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A743-4D77-4F38-B52A-E886BD38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5C76-C8D7-4B1F-80E6-67592549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ED67-D125-4352-A3B6-3429B8C5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5FDC-208C-4B4B-B1F5-290B9F98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ECDE-734B-4D02-966A-DCADB53F9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riztia.cl/img/higiene.jpg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aginasdesegovia.com/imagenes/junio2007/higiene%20y%20salud.jp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images.google.co.ve/imgres?imgurl=http://www.paritarios.cl/images/02_higiene.jpg&amp;imgrefurl=http://www.paritarios.cl/servicios_vivir_mejor.htm&amp;h=263&amp;w=562&amp;sz=50&amp;hl=es&amp;start=3&amp;tbnid=TI6IE8vDqUqnFM:&amp;tbnh=62&amp;tbnw=133&amp;prev=/images%3Fq%3DHIGIENE%26gbv%3D2%26hl%3Des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images.google.co.ve/imgres?imgurl=http://www.plasalix.com/zencart/images/limpeza/balde.jpg&amp;imgrefurl=http://www.plasalix.com/zencart/index.php%3Fmain_page%3Dproduct_info%26products_id%3D8%26language%3Des&amp;h=400&amp;w=400&amp;sz=8&amp;hl=es&amp;start=164&amp;tbnid=EIQGl6v7sgAO6M:&amp;tbnh=124&amp;tbnw=124&amp;prev=/images%3Fq%3DHIGIENE%26start%3D160%26gbv%3D2%26ndsp%3D20%26hl%3Des%26sa%3DN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images.google.co.ve/imgres?imgurl=http://bp0.blogger.com/_dQc_VK6hZko/R1glakHgLeI/AAAAAAAAACs/4JX6BjNcxT0/s400/hunk161024x768.jpg&amp;imgrefurl=http://automator79-robotron.blogspot.com/&amp;h=300&amp;w=400&amp;sz=17&amp;hl=es&amp;start=244&amp;tbnid=EtjHMaOE2AavaM:&amp;tbnh=93&amp;tbnw=124&amp;prev=/images%3Fq%3DHIGIENE%26start%3D240%26gbv%3D2%26ndsp%3D20%26hl%3Des%26sa%3DN" TargetMode="External"/><Relationship Id="rId9" Type="http://schemas.openxmlformats.org/officeDocument/2006/relationships/image" Target="../media/image6.jpeg"/><Relationship Id="rId10" Type="http://schemas.openxmlformats.org/officeDocument/2006/relationships/hyperlink" Target="http://images.google.co.ve/imgres?imgurl=http://www.telefonica.net/web2/akiv/militargaleno.jpg&amp;imgrefurl=http://historiasconhistoria.blogia.com/2007/101801-medicina-militar-romana.php&amp;h=448&amp;w=356&amp;sz=50&amp;hl=es&amp;start=36&amp;tbnid=tBv6OqAEZJeLsM:&amp;tbnh=127&amp;tbnw=101&amp;prev=/images%3Fq%3DHIGIENE%2BMILITAR%26start%3D20%26gbv%3D2%26ndsp%3D20%26hl%3Des%26sa%3DN" TargetMode="External"/><Relationship Id="rId11" Type="http://schemas.openxmlformats.org/officeDocument/2006/relationships/image" Target="../media/image7.jpeg"/><Relationship Id="rId12" Type="http://schemas.openxmlformats.org/officeDocument/2006/relationships/image" Target="../media/image8.jpeg"/><Relationship Id="rId1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ve/imgres?imgurl=http://centros2.pntic.mec.es/cp.andres.manjon1/infor/i2.jpg&amp;imgrefurl=http://centros2.pntic.mec.es/cp.andres.manjon1/infor/paginita.htm&amp;h=280&amp;w=520&amp;sz=187&amp;hl=es&amp;start=512&amp;tbnid=OR0tkkb9IrhxyM:&amp;tbnh=71&amp;tbnw=131&amp;prev=/images%3Fq%3DHIGIENE%26start%3D500%26gbv%3D2%26ndsp%3D20%26hl%3Des%26sa%3DN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ve/imgres?imgurl=http://www.plasalix.com/zencart/images/limpeza/balde.jpg&amp;imgrefurl=http://www.plasalix.com/zencart/index.php%3Fmain_page%3Dproduct_info%26products_id%3D8%26language%3Des&amp;h=400&amp;w=400&amp;sz=8&amp;hl=es&amp;start=164&amp;tbnid=EIQGl6v7sgAO6M:&amp;tbnh=124&amp;tbnw=124&amp;prev=/images%3Fq%3DHIGIENE%26start%3D160%26gbv%3D2%26ndsp%3D20%26hl%3Des%26sa%3DN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images.google.co.ve/imgres?imgurl=http://media-cdn.tripadvisor.com/media/photo-s/01/07/7d/c3/la-higiene-del-hotel.jpg&amp;imgrefurl=http://www.tripadvisor.es/LocationPhotos-g316062-d316888-w2-Hesperia_Playa_El_Agua-Porlamar_Margarita_Island_Coastal_Islands.html&amp;h=412&amp;w=550&amp;sz=29&amp;hl=es&amp;start=62&amp;tbnid=pFsh_VEtfvmrcM:&amp;tbnh=100&amp;tbnw=133&amp;prev=/images%3Fq%3DHIGIENE%26start%3D60%26gbv%3D2%26ndsp%3D20%26hl%3Des%26sa%3DN" TargetMode="External"/><Relationship Id="rId5" Type="http://schemas.openxmlformats.org/officeDocument/2006/relationships/image" Target="../media/image10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ve/imgres?imgurl=http://www.elpais.com/recorte/20070827elpmad_2/LCO340/Ies/Lamentables_condiciones_higiene_comisaria_Alcala_Henares.jpg&amp;imgrefurl=http://www.elpais.com/articulo/madrid/Cucarachas/comisaria/elpepuespmad/20070827elpmad_1/Tes/&amp;h=340&amp;w=340&amp;sz=20&amp;hl=es&amp;start=38&amp;tbnid=SDAdgq0oiVxwxM:&amp;tbnh=119&amp;tbnw=119&amp;prev=/images%3Fq%3DHIGIENE%26start%3D20%26gbv%3D2%26ndsp%3D20%26hl%3Des%26sa%3DN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images.google.co.ve/imgres?imgurl=http://weblogs.madrimasd.org/images/weblogs_madrimasd_org/salud_publica/832/o_Scan10006.JPG&amp;imgrefurl=http://weblogs.madrimasd.org/salud_publica/archive/2007/11/18/79003.aspx&amp;h=4672&amp;w=6848&amp;sz=2756&amp;hl=es&amp;start=371&amp;tbnid=6ZtRw0FFEPvo5M:&amp;tbnh=102&amp;tbnw=150&amp;prev=/images%3Fq%3DHIGIENE%26start%3D360%26gbv%3D2%26ndsp%3D20%26hl%3Des%26sa%3DN" TargetMode="External"/><Relationship Id="rId5" Type="http://schemas.openxmlformats.org/officeDocument/2006/relationships/image" Target="../media/image12.jpeg"/><Relationship Id="rId6" Type="http://schemas.openxmlformats.org/officeDocument/2006/relationships/hyperlink" Target="http://images.google.co.ve/imgres?imgurl=http://www.sepbcs.gob.mx/comunicacion/comunicados/imagenes/02_May-07/seguridad%2520e%2520higiene_02.JPG&amp;imgrefurl=http://www.sepbcs.gob.mx/comunicacion/comunicados/02_May-07_Bol02.htm&amp;h=235&amp;w=314&amp;sz=55&amp;hl=es&amp;start=413&amp;tbnid=HbVDNw2E8YejgM:&amp;tbnh=88&amp;tbnw=117&amp;prev=/images%3Fq%3DHIGIENE%26start%3D400%26gbv%3D2%26ndsp%3D20%26hl%3Des%26sa%3DN" TargetMode="External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ve/imgres?imgurl=http://www.amazoniamagica.com/images/HMA.jpg&amp;imgrefurl=http://www.amazoniamagica.com/index.php%3FcPath%3D32_49%26osCsid%3D30bf7102adf79ca05fda0d90cf276b4c&amp;h=414&amp;w=587&amp;sz=35&amp;hl=es&amp;start=252&amp;tbnid=VK4q4WWC-W7joM:&amp;tbnh=95&amp;tbnw=135&amp;prev=/images%3Fq%3DHIGIENE%26start%3D240%26gbv%3D2%26ndsp%3D20%26hl%3Des%26sa%3DN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images.google.co.ve/imgres?imgurl=http://www.arsenalfotografico.com/banco_de_imagenes/d/10644-2/fh1381.jpg&amp;imgrefurl=http://www.arsenalfotografico.com/banco_de_imagenes/objetos/fh1381.jpg.html&amp;h=450&amp;w=299&amp;sz=72&amp;hl=es&amp;start=448&amp;tbnid=jL5cEcKxX7JMrM:&amp;tbnh=127&amp;tbnw=84&amp;prev=/images%3Fq%3DHIGIENE%26start%3D440%26gbv%3D2%26ndsp%3D20%26hl%3Des%26sa%3DN" TargetMode="External"/><Relationship Id="rId5" Type="http://schemas.openxmlformats.org/officeDocument/2006/relationships/image" Target="../media/image15.jpeg"/><Relationship Id="rId6" Type="http://schemas.openxmlformats.org/officeDocument/2006/relationships/hyperlink" Target="http://images.google.co.ve/imgres?imgurl=http://farm2.static.flickr.com/1313/1345988462_54964f15d9.jpg&amp;imgrefurl=http://www.elinformaldefran.com/2007/09/ante-todo-higiene-en-la-feria.html&amp;h=375&amp;w=500&amp;sz=163&amp;hl=es&amp;start=178&amp;tbnid=c-q1hrwD98KMrM:&amp;tbnh=98&amp;tbnw=130&amp;prev=/images%3Fq%3DHIGIENE%26start%3D160%26gbv%3D2%26ndsp%3D20%26hl%3Des%26sa%3DN" TargetMode="External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Bookman Old Style"/>
              </a:rPr>
              <a:t>República Bolivariana de Venezuela</a:t>
            </a:r>
            <a:br>
              <a:rPr sz="2200"/>
            </a:br>
            <a:r>
              <a:rPr b="0" lang="es-MX" sz="2200" spc="-1" strike="noStrike">
                <a:solidFill>
                  <a:srgbClr val="000000"/>
                </a:solidFill>
                <a:latin typeface="Bookman Old Style"/>
              </a:rPr>
              <a:t>Ministerio del Poder Popular para la Defensa</a:t>
            </a:r>
            <a:br>
              <a:rPr sz="2200"/>
            </a:br>
            <a:r>
              <a:rPr b="0" lang="es-MX" sz="2200" spc="-1" strike="noStrike">
                <a:solidFill>
                  <a:srgbClr val="000000"/>
                </a:solidFill>
                <a:latin typeface="Bookman Old Style"/>
              </a:rPr>
              <a:t>Universidad Nacional Experimental Politécnica</a:t>
            </a:r>
            <a:br>
              <a:rPr sz="2200"/>
            </a:br>
            <a:r>
              <a:rPr b="0" lang="es-MX" sz="2200" spc="-1" strike="noStrike">
                <a:solidFill>
                  <a:srgbClr val="000000"/>
                </a:solidFill>
                <a:latin typeface="Bookman Old Style"/>
              </a:rPr>
              <a:t>de la Fuerza Armada</a:t>
            </a:r>
            <a:br>
              <a:rPr sz="2200"/>
            </a:br>
            <a:r>
              <a:rPr b="0" lang="es-MX" sz="2200" spc="-1" strike="noStrike">
                <a:solidFill>
                  <a:srgbClr val="000000"/>
                </a:solidFill>
                <a:latin typeface="Bookman Old Style"/>
              </a:rPr>
              <a:t>U. N. E. F. A</a:t>
            </a:r>
            <a:br>
              <a:rPr sz="2200"/>
            </a:br>
            <a:r>
              <a:rPr b="0" lang="es-MX" sz="2200" spc="-1" strike="noStrike">
                <a:solidFill>
                  <a:srgbClr val="000000"/>
                </a:solidFill>
                <a:latin typeface="Bookman Old Style"/>
              </a:rPr>
              <a:t>Licenciatura en Economía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68360" y="5013360"/>
            <a:ext cx="8280360" cy="1808280"/>
            <a:chOff x="468360" y="5013360"/>
            <a:chExt cx="8280360" cy="1808280"/>
          </a:xfrm>
        </p:grpSpPr>
        <p:sp>
          <p:nvSpPr>
            <p:cNvPr id="43" name=""/>
            <p:cNvSpPr/>
            <p:nvPr/>
          </p:nvSpPr>
          <p:spPr>
            <a:xfrm>
              <a:off x="468360" y="5013360"/>
              <a:ext cx="53989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Bookman Old Style"/>
                </a:rPr>
                <a:t>Cátedra: Sanidad Militar y Primeros Auxili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Bookman Old Style"/>
                </a:rPr>
                <a:t>Prof. (a): ST2. Angie Sánche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148360" y="5013360"/>
              <a:ext cx="3600360" cy="18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Bookman Old Style"/>
                </a:rPr>
                <a:t>Participante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Bookman Old Style"/>
                </a:rPr>
                <a:t>Bracamonte Hé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Bookman Old Style"/>
                </a:rPr>
                <a:t>Contreras Gabrie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Bookman Old Style"/>
                </a:rPr>
                <a:t>Marrero Marian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Bookman Old Style"/>
                </a:rPr>
                <a:t>Ordozgoite Vivian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95280" y="331920"/>
            <a:ext cx="9399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11280" y="8366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Lucida Handwriting"/>
              </a:rPr>
              <a:t>Aguas Resid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627280" y="1052640"/>
            <a:ext cx="2438280" cy="1174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95280" y="404640"/>
            <a:ext cx="5329080" cy="22323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2637000"/>
            <a:ext cx="1440000" cy="1800000"/>
          </a:xfrm>
          <a:custGeom>
            <a:avLst/>
            <a:gdLst>
              <a:gd name="textAreaLeft" fmla="*/ 192960 w 1440000"/>
              <a:gd name="textAreaRight" fmla="*/ 1247040 w 144000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11280" y="3573360"/>
            <a:ext cx="201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iller"/>
              </a:rPr>
              <a:t>Siempre se debe buscar el desagües para evitar la contami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653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6920" y="5373720"/>
            <a:ext cx="2951280" cy="131364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iller"/>
              </a:rPr>
              <a:t>Los desagüe evitan que están se acumulen y produzcan enfermeda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56360" y="1125360"/>
            <a:ext cx="2519280" cy="1943280"/>
          </a:xfrm>
          <a:custGeom>
            <a:avLst/>
            <a:gdLst>
              <a:gd name="textAreaLeft" fmla="*/ 337320 w 2519280"/>
              <a:gd name="textAreaRight" fmla="*/ 2181960 w 2519280"/>
              <a:gd name="textAreaTop" fmla="*/ 339840 h 1943280"/>
              <a:gd name="textAreaBottom" fmla="*/ 1409040 h 19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1760094"/>
                <a:lnTo>
                  <a:pt x="11419" y="20457"/>
                </a:lnTo>
                <a:lnTo>
                  <a:pt x="0" y="17280"/>
                </a:lnTo>
                <a:lnTo>
                  <a:pt x="11419" y="11817"/>
                </a:lnTo>
                <a:lnTo>
                  <a:pt x="11419" y="13977"/>
                </a:lnTo>
                <a:arcTo wR="21600" hR="7560" stAng="1760094" swAng="-1402660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59280" y="2852640"/>
            <a:ext cx="1873440" cy="2562840"/>
          </a:xfrm>
          <a:prstGeom prst="rect">
            <a:avLst/>
          </a:prstGeom>
          <a:noFill/>
          <a:ln w="3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iller"/>
              </a:rPr>
              <a:t>Las aguas de arroyo dependiendo su origen se clasifican desde el aseo personal, hasta el lavado de equi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>
            <a:hlinkClick r:id="rId2"/>
          </p:cNvPr>
          <p:cNvPicPr/>
          <p:nvPr/>
        </p:nvPicPr>
        <p:blipFill>
          <a:blip r:embed="rId3">
            <a:lum bright="22000"/>
          </a:blip>
          <a:stretch/>
        </p:blipFill>
        <p:spPr>
          <a:xfrm>
            <a:off x="1692360" y="1008000"/>
            <a:ext cx="6048360" cy="46213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Bookman Old Style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Bookman Old Style"/>
              </a:rPr>
              <a:t>HIGIENE SOBRE </a:t>
            </a:r>
            <a:br>
              <a:rPr sz="4400"/>
            </a:br>
            <a:r>
              <a:rPr b="0" lang="es-MX" sz="4400" spc="-1" strike="noStrike">
                <a:solidFill>
                  <a:srgbClr val="cc0099"/>
                </a:solidFill>
                <a:latin typeface="Bookman Old Style"/>
              </a:rPr>
              <a:t>LA MARC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26920" y="669960"/>
            <a:ext cx="7848720" cy="5740200"/>
            <a:chOff x="826920" y="669960"/>
            <a:chExt cx="7848720" cy="5740200"/>
          </a:xfrm>
        </p:grpSpPr>
        <p:pic>
          <p:nvPicPr>
            <p:cNvPr id="48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826920" y="3573360"/>
              <a:ext cx="1640160" cy="25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5076720" y="669960"/>
              <a:ext cx="3598920" cy="16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6918480" y="4653000"/>
              <a:ext cx="1757160" cy="17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>
              <a:hlinkClick r:id="rId8"/>
            </p:cNvPr>
            <p:cNvPicPr/>
            <p:nvPr/>
          </p:nvPicPr>
          <p:blipFill>
            <a:blip r:embed="rId9">
              <a:lum bright="30000"/>
            </a:blip>
            <a:stretch/>
          </p:blipFill>
          <p:spPr>
            <a:xfrm>
              <a:off x="870120" y="743040"/>
              <a:ext cx="1757160" cy="1317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 rot="736200">
            <a:off x="6376680" y="3687840"/>
            <a:ext cx="2371680" cy="2981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 rot="20563200">
            <a:off x="703080" y="395280"/>
            <a:ext cx="26636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Bookman Old Style"/>
              </a:rPr>
              <a:t>Higiene sobre la Marc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00000" y="170028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Bookman Old Style"/>
              </a:rPr>
              <a:t>ACONDICIONAMIENTO DE LA TROPA.</a:t>
            </a:r>
            <a:r>
              <a:rPr b="0" lang="es-MX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60720" y="2959200"/>
            <a:ext cx="431964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Bookman Old Style"/>
              </a:rPr>
              <a:t>Higiene sobre la Marc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191628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Bookman Old Style"/>
              </a:rPr>
              <a:t>EJECUCION DE LA MARCHA.</a:t>
            </a:r>
            <a:r>
              <a:rPr b="0" lang="es-MX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195640" y="1992240"/>
            <a:ext cx="5832360" cy="3884400"/>
            <a:chOff x="2195640" y="1992240"/>
            <a:chExt cx="5832360" cy="3884400"/>
          </a:xfrm>
        </p:grpSpPr>
        <p:grpSp>
          <p:nvGrpSpPr>
            <p:cNvPr id="60" name=""/>
            <p:cNvGrpSpPr/>
            <p:nvPr/>
          </p:nvGrpSpPr>
          <p:grpSpPr>
            <a:xfrm>
              <a:off x="2195640" y="3068640"/>
              <a:ext cx="5616000" cy="2808000"/>
              <a:chOff x="2195640" y="3068640"/>
              <a:chExt cx="5616000" cy="2808000"/>
            </a:xfrm>
          </p:grpSpPr>
          <p:pic>
            <p:nvPicPr>
              <p:cNvPr id="61" name="" descr="">
                <a:hlinkClick r:id="rId2"/>
              </p:cNvPr>
              <p:cNvPicPr/>
              <p:nvPr/>
            </p:nvPicPr>
            <p:blipFill>
              <a:blip r:embed="rId3"/>
              <a:stretch/>
            </p:blipFill>
            <p:spPr>
              <a:xfrm>
                <a:off x="5794560" y="4092120"/>
                <a:ext cx="2017080" cy="1784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" descr="">
                <a:hlinkClick r:id="rId4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2195640" y="3068640"/>
                <a:ext cx="2441880" cy="1623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3" name="" descr=""/>
            <p:cNvPicPr/>
            <p:nvPr/>
          </p:nvPicPr>
          <p:blipFill>
            <a:blip r:embed="rId6"/>
            <a:stretch/>
          </p:blipFill>
          <p:spPr>
            <a:xfrm>
              <a:off x="5081760" y="1992240"/>
              <a:ext cx="2946240" cy="2278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Bookman Old Style"/>
              </a:rPr>
              <a:t>Higiene sobre la Marc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5840" y="1844640"/>
            <a:ext cx="70581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man Old Style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Bookman Old Style"/>
              </a:rPr>
              <a:t>PERSONAL DE AVANZADA DE ALOJAMIENTO.</a:t>
            </a:r>
            <a:r>
              <a:rPr b="0" lang="es-MX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man Old Style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Bookman Old Style"/>
              </a:rPr>
              <a:t>SELECCION Y SANEAMIENTO DE LOS EMPLAZAMIENTOS DE CAMPAMENTOS</a:t>
            </a:r>
            <a:r>
              <a:rPr b="0" lang="es-MX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187280" y="1420920"/>
            <a:ext cx="7848720" cy="4611600"/>
            <a:chOff x="1187280" y="1420920"/>
            <a:chExt cx="7848720" cy="4611600"/>
          </a:xfrm>
        </p:grpSpPr>
        <p:pic>
          <p:nvPicPr>
            <p:cNvPr id="67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1187280" y="3295800"/>
              <a:ext cx="2737080" cy="27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5148360" y="3105000"/>
              <a:ext cx="3456000" cy="235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6946920" y="1420920"/>
              <a:ext cx="2089080" cy="156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324000" y="765000"/>
            <a:ext cx="8567640" cy="5896080"/>
            <a:chOff x="324000" y="765000"/>
            <a:chExt cx="8567640" cy="5896080"/>
          </a:xfrm>
        </p:grpSpPr>
        <p:pic>
          <p:nvPicPr>
            <p:cNvPr id="71" name="" descr="">
              <a:hlinkClick r:id="rId2"/>
            </p:cNvPr>
            <p:cNvPicPr/>
            <p:nvPr/>
          </p:nvPicPr>
          <p:blipFill>
            <a:blip r:embed="rId3">
              <a:lum bright="20000"/>
            </a:blip>
            <a:stretch/>
          </p:blipFill>
          <p:spPr>
            <a:xfrm>
              <a:off x="826920" y="765000"/>
              <a:ext cx="7705800" cy="542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324000" y="4149720"/>
              <a:ext cx="1657080" cy="250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6227640" y="4653000"/>
              <a:ext cx="2664000" cy="200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Bookman Old Style"/>
              </a:rPr>
              <a:t>Higiene sobre la Marc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42920" y="184464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Bookman Old Style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ARACTERISTICAS SANITARIAS IDEALES DE LOS EMPLAZAMIENTOS DE CAMPAMENTO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419640" y="549360"/>
            <a:ext cx="3024000" cy="459000"/>
          </a:xfrm>
          <a:prstGeom prst="rect">
            <a:avLst/>
          </a:prstGeom>
          <a:noFill/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Handwriting"/>
              </a:rPr>
              <a:t>Eliminación  de Excrementos  de Origen  Hum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32360" y="112536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191628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o es unos de los puntos principales en un campamento, esto con el fin de  no contaminar los suministros de agu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050560" y="2637000"/>
            <a:ext cx="244980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71640" y="3789360"/>
            <a:ext cx="2160360" cy="2533320"/>
          </a:xfrm>
          <a:prstGeom prst="rect">
            <a:avLst/>
          </a:prstGeom>
          <a:noFill/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iller"/>
              </a:rPr>
              <a:t>Se debe observar si se tiene los instrumentos de limpieza, de la persona o de personal a car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2637000"/>
            <a:ext cx="180000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3716280"/>
            <a:ext cx="2376720" cy="1923480"/>
          </a:xfrm>
          <a:prstGeom prst="rect">
            <a:avLst/>
          </a:prstGeom>
          <a:noFill/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iller"/>
              </a:rPr>
              <a:t>En estos casos se usan letrinas de zanja comunales, pero en la mayoría usan  las letrinas de po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708360" y="3213000"/>
            <a:ext cx="160020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00000" y="620640"/>
            <a:ext cx="2600280" cy="290520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508720" y="3141720"/>
            <a:ext cx="2428920" cy="271440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5148360" y="1268280"/>
            <a:ext cx="2160360" cy="19227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Chiller"/>
              </a:rPr>
              <a:t>Tipos de letrinas en los campa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708000" y="1700280"/>
            <a:ext cx="1368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156360" y="2205000"/>
            <a:ext cx="712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39640" y="4292640"/>
            <a:ext cx="4465800" cy="1368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156360" y="3645000"/>
            <a:ext cx="172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iller"/>
              </a:rPr>
              <a:t>Tener basura hace que aparezcan enferme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24360" y="3429000"/>
            <a:ext cx="2592720" cy="1655640"/>
          </a:xfrm>
          <a:prstGeom prst="cloudCallout">
            <a:avLst>
              <a:gd name="adj1" fmla="val -87476"/>
              <a:gd name="adj2" fmla="val 31685"/>
            </a:avLst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4427640" y="2421000"/>
            <a:ext cx="12967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71640" y="1413000"/>
            <a:ext cx="208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 esto se debe crear un sistema de recolección de bas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835280" y="1916280"/>
            <a:ext cx="72072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2852640"/>
            <a:ext cx="1584360" cy="641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untualizar una zona para los desperd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148360" y="1341360"/>
            <a:ext cx="1079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59640" y="836640"/>
            <a:ext cx="1800000" cy="641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onde no halla acceso de personas, solo personal capacit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21:36:34Z</dcterms:created>
  <dc:creator>WinuE</dc:creator>
  <dc:description/>
  <dc:language>en-US</dc:language>
  <cp:lastModifiedBy>Gabriela Contreras</cp:lastModifiedBy>
  <dcterms:modified xsi:type="dcterms:W3CDTF">2008-03-06T01:37:12Z</dcterms:modified>
  <cp:revision>4</cp:revision>
  <dc:subject/>
  <dc:title>Diapositiva 1</dc:title>
</cp:coreProperties>
</file>